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9A1-8CBB-41CB-B937-C74A933C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4F7-872A-4528-B9E8-6C1A08B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A26-E9D9-406C-85D3-C28AD451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C2B-ED76-40B8-8385-844E2EB9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93AC-68B8-4E88-B8EF-061800D5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B7F3-9C7C-469B-BD83-9B656CC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48D7-4848-48D5-93BC-30A4E69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98A-54BE-49E2-8DC7-714A32A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5B32-0E1D-4EC6-B87F-B7DD444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5F69-2ED1-408E-A592-A86CD79B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28A-5BF7-4DDC-9DF3-39B05BF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BFC-C311-4AF1-9016-F767637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8D3-08CE-4A65-8E6B-0979852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1F33-8942-4A3D-85DE-64A65EC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656-F12D-49A1-BF4E-97AC424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62E-598E-4E93-BBE7-C2361229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D59A-9D7E-47B0-A31E-D121C1A6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8AF-7A0A-4BD1-A4A2-2C45A454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7DE-ADD0-4818-AD4C-7C01AE7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FAA-6058-4AEC-A3AC-7B06FBF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F9D-A5AC-4320-86D9-AC89362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D2D-455D-4842-AD68-00343F7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B4A-FC29-43D8-B8AA-1FF3D5C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A1D-086A-4A91-B3B2-4539C76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F42-41D7-4883-8E6C-DE1BFE9F702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F79-043D-47D3-A423-CB3F1B05DD2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5805000"/>
            <a:ext cx="640080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Истомина На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835280" y="5684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Impact"/>
              </a:rPr>
              <a:t>Тема учебного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1187280" y="836640"/>
            <a:ext cx="7129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трана Дроб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85" name="Picture 14" descr="school19-08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ff00"/>
                </a:solidFill>
                <a:latin typeface="Arial"/>
              </a:rPr>
              <a:t>Желаем Удачи!!!!!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chool02-12"/>
          <p:cNvPicPr/>
          <p:nvPr/>
        </p:nvPicPr>
        <p:blipFill>
          <a:blip r:embed="rId1"/>
          <a:stretch/>
        </p:blipFill>
        <p:spPr>
          <a:xfrm>
            <a:off x="3564000" y="3933720"/>
            <a:ext cx="30099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Можно ли   измерить мир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55a1f737e21f8f9b929f2d26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5437440" cy="13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chool02-14"/>
          <p:cNvPicPr/>
          <p:nvPr/>
        </p:nvPicPr>
        <p:blipFill>
          <a:blip r:embed="rId2"/>
          <a:stretch/>
        </p:blipFill>
        <p:spPr>
          <a:xfrm>
            <a:off x="4788000" y="1844640"/>
            <a:ext cx="3983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350200" cy="127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806c6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7" descr="school06-17"/>
          <p:cNvPicPr/>
          <p:nvPr/>
        </p:nvPicPr>
        <p:blipFill>
          <a:blip r:embed="rId2"/>
          <a:stretch/>
        </p:blipFill>
        <p:spPr>
          <a:xfrm>
            <a:off x="179280" y="1916280"/>
            <a:ext cx="2124360" cy="458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chool02-30"/>
          <p:cNvPicPr/>
          <p:nvPr/>
        </p:nvPicPr>
        <p:blipFill>
          <a:blip r:embed="rId3"/>
          <a:stretch/>
        </p:blipFill>
        <p:spPr>
          <a:xfrm>
            <a:off x="5940360" y="3789360"/>
            <a:ext cx="299088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358120" cy="18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Как и когда возникли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7" descr="school10-09"/>
          <p:cNvPicPr/>
          <p:nvPr/>
        </p:nvPicPr>
        <p:blipFill>
          <a:blip r:embed="rId2"/>
          <a:stretch/>
        </p:blipFill>
        <p:spPr>
          <a:xfrm>
            <a:off x="5796000" y="1916280"/>
            <a:ext cx="3000240" cy="42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1837"/>
                </a:solidFill>
                <a:latin typeface="Book Antiqua"/>
              </a:rPr>
              <a:t>Исследоват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school02-21"/>
          <p:cNvPicPr/>
          <p:nvPr/>
        </p:nvPicPr>
        <p:blipFill>
          <a:blip r:embed="rId2"/>
          <a:stretch/>
        </p:blipFill>
        <p:spPr>
          <a:xfrm>
            <a:off x="5219640" y="2133720"/>
            <a:ext cx="361656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 каких  источниках впервые упоминается о дробя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оби!!! Какие они в Древнем Вавилон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Где впервые стали записывать дроби с помощью числителя и знаменател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6" descr="school02-28"/>
          <p:cNvPicPr/>
          <p:nvPr/>
        </p:nvPicPr>
        <p:blipFill>
          <a:blip r:embed="rId2"/>
          <a:stretch/>
        </p:blipFill>
        <p:spPr>
          <a:xfrm>
            <a:off x="6443640" y="2565360"/>
            <a:ext cx="2448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school02-11"/>
          <p:cNvPicPr/>
          <p:nvPr/>
        </p:nvPicPr>
        <p:blipFill>
          <a:blip r:embed="rId2"/>
          <a:stretch/>
        </p:blipFill>
        <p:spPr>
          <a:xfrm>
            <a:off x="6696000" y="3213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chool19-03"/>
          <p:cNvPicPr/>
          <p:nvPr/>
        </p:nvPicPr>
        <p:blipFill>
          <a:blip r:embed="rId3"/>
          <a:stretch/>
        </p:blipFill>
        <p:spPr>
          <a:xfrm>
            <a:off x="1116000" y="4581360"/>
            <a:ext cx="439272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06c6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school19-07"/>
          <p:cNvPicPr/>
          <p:nvPr/>
        </p:nvPicPr>
        <p:blipFill>
          <a:blip r:embed="rId2"/>
          <a:stretch/>
        </p:blipFill>
        <p:spPr>
          <a:xfrm>
            <a:off x="5148360" y="2421000"/>
            <a:ext cx="37861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6518</cp:lastModifiedBy>
  <dcterms:modified xsi:type="dcterms:W3CDTF">2010-05-28T05:36:22Z</dcterms:modified>
  <cp:revision>30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